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E427-46C6-41AF-8E39-94F42BC2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1ED-E5F9-47D5-B762-8A51B6D6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176D-BCAE-4077-8CFC-717B7118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3225-CE48-45E5-BFBB-E222A494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6AFE-937B-4A1F-9EDC-7335FDFE9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8D9-54A8-4948-A1B7-5EF2C6A1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7194-D0D3-4B18-8E19-CD854FE83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BC28-FBC2-42D3-B255-D96D83FD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3A82-F62D-4FEF-9A29-1FB791B4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322-DED1-48D1-B5B3-24AB11A3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CA05-CB8B-447B-BA15-6BD79B1AA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DD3-F64D-4DE6-A176-EE9ABE06F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E9EF-D93A-4E6D-9E15-01A9DE97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5FE0-C728-405D-89A9-FEB5C3A5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D9F2-D992-4D1D-8001-2473743E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CBE3-59C0-4600-A9BE-171AF0AD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2746-3F57-45C3-AF5D-3A02DB68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75EF-7E16-46B5-9FBE-97D1342C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943D-5F62-4378-B5B8-465DF125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1FBA-2B0F-426E-8A30-E36185350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0A0A-D4D2-4B3E-A19D-36B9518A7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62BC-2252-4080-9665-0A3BF2B5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07F6-FCCE-4C98-A584-06DE5B92B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D8BA-216F-47E0-B86F-22D4A00BC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D183-B97D-4441-BBF3-1DD16274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6B21-402F-4A63-A108-0D0DCA032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DC08-3F0D-4F23-9120-80DDAEAEE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D161-FD1A-45D5-864A-A0DDE5E4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8C15-2363-495A-AC31-17CAF7C1F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6A4A-1EFB-4DD3-9A3D-A63F5E47F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FE78-F088-4F42-92BE-DE61E1523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DE2C-7804-47E6-95D1-92B849DB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E5A9-94E7-452E-A3DD-80CE09B0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7D7B-73BA-4238-AAF2-64A6E249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E156-668B-4106-9E66-4037C663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622D-79B8-4E7B-87CE-1DE93991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17BB-8FDE-447B-BD44-6C48A5DC4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C3F2-1736-41D7-B418-0F26F1AB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0673-003D-49BA-825F-3D1C94D0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3859-E8D0-4032-A746-1C327BA5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7C89-10C5-4CD6-B4E1-C35AAA6B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C73F-C499-40DD-8732-25B647B6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3D90-444A-4C20-8DF2-6FD6FA3F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3DD0-447A-4774-983E-2F57CBE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D4D3-FE6A-4E5A-AB39-7DFBEA1F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3C7E-B373-4D31-B78C-73C0E28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4F67-F666-4880-B1A6-7514E87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8F80-C9E9-45E0-BEC2-CE02C0EF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5892-CE80-46EC-A064-5D4DE1B1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67E0-E89A-4A83-B2F1-05B25BC06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008920" y="591336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que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quilib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0996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17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Additional Aspects of Aqueous Equilibria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imilarly, if acid is added, the F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reacts with it to form HF and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2" name="Picture 5" descr="17_02acid"/>
          <p:cNvPicPr/>
          <p:nvPr/>
        </p:nvPicPr>
        <p:blipFill>
          <a:blip r:embed="rId1"/>
          <a:stretch/>
        </p:blipFill>
        <p:spPr>
          <a:xfrm>
            <a:off x="2641680" y="1598760"/>
            <a:ext cx="3857400" cy="32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 Calcul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the equilibrium constant expression for the dissociation of a generic acid, HA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3231360" y="4800600"/>
            <a:ext cx="2710440" cy="1006200"/>
            <a:chOff x="3231360" y="4800600"/>
            <a:chExt cx="2710440" cy="1006200"/>
          </a:xfrm>
        </p:grpSpPr>
        <p:grpSp>
          <p:nvGrpSpPr>
            <p:cNvPr id="106" name="Group 9"/>
            <p:cNvGrpSpPr/>
            <p:nvPr/>
          </p:nvGrpSpPr>
          <p:grpSpPr>
            <a:xfrm>
              <a:off x="4134960" y="4800600"/>
              <a:ext cx="1806840" cy="1006200"/>
              <a:chOff x="4134960" y="4800600"/>
              <a:chExt cx="1806840" cy="1006200"/>
            </a:xfrm>
          </p:grpSpPr>
          <p:sp>
            <p:nvSpPr>
              <p:cNvPr id="107" name="Rectangle 10"/>
              <p:cNvSpPr/>
              <p:nvPr/>
            </p:nvSpPr>
            <p:spPr>
              <a:xfrm>
                <a:off x="4142880" y="4800600"/>
                <a:ext cx="17989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3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</a:rPr>
                  <a:t>+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 [A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A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1"/>
              <p:cNvSpPr/>
              <p:nvPr/>
            </p:nvSpPr>
            <p:spPr>
              <a:xfrm>
                <a:off x="4134960" y="5307120"/>
                <a:ext cx="175212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2"/>
            <p:cNvSpPr/>
            <p:nvPr/>
          </p:nvSpPr>
          <p:spPr>
            <a:xfrm>
              <a:off x="3231360" y="501480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1537920" y="3886200"/>
            <a:ext cx="6120720" cy="648720"/>
            <a:chOff x="1537920" y="3886200"/>
            <a:chExt cx="6120720" cy="648720"/>
          </a:xfrm>
        </p:grpSpPr>
        <p:sp>
          <p:nvSpPr>
            <p:cNvPr id="111" name="Rectangle 4"/>
            <p:cNvSpPr/>
            <p:nvPr/>
          </p:nvSpPr>
          <p:spPr>
            <a:xfrm>
              <a:off x="1537920" y="3886200"/>
              <a:ext cx="195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HA + 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5726880" y="3886200"/>
              <a:ext cx="1931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A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3" descr="equilibrium"/>
            <p:cNvPicPr/>
            <p:nvPr/>
          </p:nvPicPr>
          <p:blipFill>
            <a:blip r:embed="rId1"/>
            <a:stretch/>
          </p:blipFill>
          <p:spPr>
            <a:xfrm>
              <a:off x="3805200" y="4054320"/>
              <a:ext cx="1587600" cy="241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 Calcul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052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rranging slightly, this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3026880" y="2743200"/>
            <a:ext cx="3102480" cy="947160"/>
            <a:chOff x="3026880" y="2743200"/>
            <a:chExt cx="3102480" cy="947160"/>
          </a:xfrm>
        </p:grpSpPr>
        <p:grpSp>
          <p:nvGrpSpPr>
            <p:cNvPr id="117" name="Group 9"/>
            <p:cNvGrpSpPr/>
            <p:nvPr/>
          </p:nvGrpSpPr>
          <p:grpSpPr>
            <a:xfrm>
              <a:off x="5214960" y="2743200"/>
              <a:ext cx="914400" cy="947160"/>
              <a:chOff x="5214960" y="2743200"/>
              <a:chExt cx="914400" cy="9471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239800" y="2743200"/>
                <a:ext cx="871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A</a:t>
                </a:r>
                <a:r>
                  <a:rPr b="0" lang="en-US" sz="2800" spc="-1" strike="noStrike" baseline="30000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[HA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5214960" y="3249720"/>
                <a:ext cx="91440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8"/>
            <p:cNvSpPr/>
            <p:nvPr/>
          </p:nvSpPr>
          <p:spPr>
            <a:xfrm>
              <a:off x="3026880" y="2957400"/>
              <a:ext cx="83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4018680" y="2955960"/>
              <a:ext cx="1145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"/>
          <p:cNvSpPr/>
          <p:nvPr/>
        </p:nvSpPr>
        <p:spPr>
          <a:xfrm>
            <a:off x="566280" y="3733920"/>
            <a:ext cx="80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aking the negative log of both side, we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7"/>
          <p:cNvGrpSpPr/>
          <p:nvPr/>
        </p:nvGrpSpPr>
        <p:grpSpPr>
          <a:xfrm>
            <a:off x="1535400" y="4616280"/>
            <a:ext cx="5472360" cy="947160"/>
            <a:chOff x="1535400" y="4616280"/>
            <a:chExt cx="5472360" cy="947160"/>
          </a:xfrm>
        </p:grpSpPr>
        <p:sp>
          <p:nvSpPr>
            <p:cNvPr id="124" name="Rectangle 15"/>
            <p:cNvSpPr/>
            <p:nvPr/>
          </p:nvSpPr>
          <p:spPr>
            <a:xfrm>
              <a:off x="6136560" y="4616280"/>
              <a:ext cx="871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A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[HA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>
              <a:off x="6264360" y="5122800"/>
              <a:ext cx="60948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1535400" y="4836960"/>
              <a:ext cx="161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log 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3158280" y="4835520"/>
              <a:ext cx="298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log [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] +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−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lo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3"/>
          <p:cNvGrpSpPr/>
          <p:nvPr/>
        </p:nvGrpSpPr>
        <p:grpSpPr>
          <a:xfrm>
            <a:off x="999000" y="5349600"/>
            <a:ext cx="1352520" cy="723240"/>
            <a:chOff x="999000" y="5349600"/>
            <a:chExt cx="1352520" cy="723240"/>
          </a:xfrm>
        </p:grpSpPr>
        <p:sp>
          <p:nvSpPr>
            <p:cNvPr id="129" name="Rectangle 20"/>
            <p:cNvSpPr/>
            <p:nvPr/>
          </p:nvSpPr>
          <p:spPr>
            <a:xfrm>
              <a:off x="999000" y="5562720"/>
              <a:ext cx="62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c"/>
                  </a:solidFill>
                  <a:latin typeface="Times New Roman"/>
                </a:rPr>
                <a:t>p</a:t>
              </a:r>
              <a:r>
                <a:rPr b="0" i="1" lang="en-US" sz="2400" spc="-1" strike="noStrike">
                  <a:solidFill>
                    <a:srgbClr val="00006c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-25000">
                  <a:solidFill>
                    <a:srgbClr val="00006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AutoShape 27"/>
            <p:cNvCxnSpPr>
              <a:stCxn id="129" idx="3"/>
              <a:endCxn id="126" idx="2"/>
            </p:cNvCxnSpPr>
            <p:nvPr/>
          </p:nvCxnSpPr>
          <p:spPr>
            <a:xfrm flipV="1">
              <a:off x="1631880" y="5349600"/>
              <a:ext cx="720000" cy="442080"/>
            </a:xfrm>
            <a:prstGeom prst="curvedConnector2">
              <a:avLst/>
            </a:prstGeom>
            <a:ln w="9360">
              <a:solidFill>
                <a:srgbClr val="00006c"/>
              </a:solidFill>
              <a:miter/>
              <a:tailEnd len="med" type="triangle" w="med"/>
            </a:ln>
          </p:spPr>
        </p:cxnSp>
      </p:grpSp>
      <p:grpSp>
        <p:nvGrpSpPr>
          <p:cNvPr id="131" name="Group 34"/>
          <p:cNvGrpSpPr/>
          <p:nvPr/>
        </p:nvGrpSpPr>
        <p:grpSpPr>
          <a:xfrm>
            <a:off x="1830600" y="5409720"/>
            <a:ext cx="2238480" cy="1145880"/>
            <a:chOff x="1830600" y="5409720"/>
            <a:chExt cx="2238480" cy="1145880"/>
          </a:xfrm>
        </p:grpSpPr>
        <p:sp>
          <p:nvSpPr>
            <p:cNvPr id="132" name="Rectangle 21"/>
            <p:cNvSpPr/>
            <p:nvPr/>
          </p:nvSpPr>
          <p:spPr>
            <a:xfrm>
              <a:off x="1830600" y="60958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c"/>
                  </a:solidFill>
                  <a:latin typeface="Times New Roman"/>
                </a:rPr>
                <a:t>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AutoShape 30"/>
            <p:cNvCxnSpPr>
              <a:stCxn id="132" idx="3"/>
            </p:cNvCxnSpPr>
            <p:nvPr/>
          </p:nvCxnSpPr>
          <p:spPr>
            <a:xfrm flipV="1">
              <a:off x="2406240" y="5409720"/>
              <a:ext cx="1556280" cy="915120"/>
            </a:xfrm>
            <a:prstGeom prst="curvedConnector5">
              <a:avLst>
                <a:gd name="adj1" fmla="val 106871"/>
                <a:gd name="adj2" fmla="val 49980"/>
                <a:gd name="adj3" fmla="val 106871"/>
              </a:avLst>
            </a:prstGeom>
            <a:ln w="9360">
              <a:solidFill>
                <a:srgbClr val="00006c"/>
              </a:solidFill>
              <a:miter/>
              <a:tailEnd len="med" type="triangle" w="med"/>
            </a:ln>
          </p:spPr>
        </p:cxnSp>
      </p:grpSp>
      <p:grpSp>
        <p:nvGrpSpPr>
          <p:cNvPr id="134" name="Group 35"/>
          <p:cNvGrpSpPr/>
          <p:nvPr/>
        </p:nvGrpSpPr>
        <p:grpSpPr>
          <a:xfrm>
            <a:off x="6479640" y="5562000"/>
            <a:ext cx="1145520" cy="765000"/>
            <a:chOff x="6479640" y="5562000"/>
            <a:chExt cx="1145520" cy="765000"/>
          </a:xfrm>
        </p:grpSpPr>
        <p:sp>
          <p:nvSpPr>
            <p:cNvPr id="135" name="Rectangle 23"/>
            <p:cNvSpPr/>
            <p:nvPr/>
          </p:nvSpPr>
          <p:spPr>
            <a:xfrm>
              <a:off x="6935400" y="586728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c"/>
                  </a:solidFill>
                  <a:latin typeface="Times New Roman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AutoShape 31"/>
            <p:cNvCxnSpPr>
              <a:stCxn id="135" idx="1"/>
              <a:endCxn id="124" idx="2"/>
            </p:cNvCxnSpPr>
            <p:nvPr/>
          </p:nvCxnSpPr>
          <p:spPr>
            <a:xfrm rot="10800000">
              <a:off x="6479280" y="5562000"/>
              <a:ext cx="455040" cy="533880"/>
            </a:xfrm>
            <a:prstGeom prst="curvedConnector2">
              <a:avLst/>
            </a:prstGeom>
            <a:ln w="9360">
              <a:solidFill>
                <a:srgbClr val="00006c"/>
              </a:solidFill>
              <a:miter/>
              <a:tailEnd len="med" type="triangle" w="med"/>
            </a:ln>
          </p:spPr>
        </p:cxnSp>
      </p:grpSp>
      <p:grpSp>
        <p:nvGrpSpPr>
          <p:cNvPr id="137" name="Group 36"/>
          <p:cNvGrpSpPr/>
          <p:nvPr/>
        </p:nvGrpSpPr>
        <p:grpSpPr>
          <a:xfrm>
            <a:off x="6479640" y="4386600"/>
            <a:ext cx="1636200" cy="568800"/>
            <a:chOff x="6479640" y="4386600"/>
            <a:chExt cx="1636200" cy="568800"/>
          </a:xfrm>
        </p:grpSpPr>
        <p:sp>
          <p:nvSpPr>
            <p:cNvPr id="138" name="Rectangle 22"/>
            <p:cNvSpPr/>
            <p:nvPr/>
          </p:nvSpPr>
          <p:spPr>
            <a:xfrm>
              <a:off x="7392600" y="44956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c"/>
                  </a:solidFill>
                  <a:latin typeface="Times New Roman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AutoShape 32"/>
            <p:cNvCxnSpPr>
              <a:stCxn id="138" idx="1"/>
              <a:endCxn id="124" idx="0"/>
            </p:cNvCxnSpPr>
            <p:nvPr/>
          </p:nvCxnSpPr>
          <p:spPr>
            <a:xfrm rot="10800000">
              <a:off x="6479280" y="4615560"/>
              <a:ext cx="912240" cy="108720"/>
            </a:xfrm>
            <a:prstGeom prst="curvedConnector5">
              <a:avLst>
                <a:gd name="adj1" fmla="val 25937"/>
                <a:gd name="adj2" fmla="val 155813"/>
                <a:gd name="adj3" fmla="val 25937"/>
              </a:avLst>
            </a:prstGeom>
            <a:ln w="9360">
              <a:solidFill>
                <a:srgbClr val="00006c"/>
              </a:solidFill>
              <a:miter/>
              <a:tailEnd len="med" type="triangle" w="med"/>
            </a:ln>
          </p:spPr>
        </p:cxn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 Calcul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42" name="Group 16"/>
          <p:cNvGrpSpPr/>
          <p:nvPr/>
        </p:nvGrpSpPr>
        <p:grpSpPr>
          <a:xfrm>
            <a:off x="2144520" y="1981080"/>
            <a:ext cx="4054320" cy="1068840"/>
            <a:chOff x="2144520" y="1981080"/>
            <a:chExt cx="4054320" cy="1068840"/>
          </a:xfrm>
        </p:grpSpPr>
        <p:sp>
          <p:nvSpPr>
            <p:cNvPr id="143" name="Rectangle 4"/>
            <p:cNvSpPr/>
            <p:nvPr/>
          </p:nvSpPr>
          <p:spPr>
            <a:xfrm>
              <a:off x="2144520" y="2232000"/>
              <a:ext cx="2796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 pH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4911840" y="1981080"/>
              <a:ext cx="128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base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acid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"/>
            <p:cNvSpPr/>
            <p:nvPr/>
          </p:nvSpPr>
          <p:spPr>
            <a:xfrm>
              <a:off x="4952880" y="2550960"/>
              <a:ext cx="11430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9"/>
          <p:cNvSpPr/>
          <p:nvPr/>
        </p:nvSpPr>
        <p:spPr>
          <a:xfrm>
            <a:off x="612360" y="3138480"/>
            <a:ext cx="53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rranging, this be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2144520" y="3809880"/>
            <a:ext cx="4054320" cy="1068840"/>
            <a:chOff x="2144520" y="3809880"/>
            <a:chExt cx="4054320" cy="1068840"/>
          </a:xfrm>
        </p:grpSpPr>
        <p:sp>
          <p:nvSpPr>
            <p:cNvPr id="148" name="Rectangle 11"/>
            <p:cNvSpPr/>
            <p:nvPr/>
          </p:nvSpPr>
          <p:spPr>
            <a:xfrm>
              <a:off x="2144520" y="4054320"/>
              <a:ext cx="2796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H = p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4911840" y="3809880"/>
              <a:ext cx="128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base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[acid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4952880" y="4379760"/>
              <a:ext cx="1143000" cy="0"/>
            </a:xfrm>
            <a:prstGeom prst="line">
              <a:avLst/>
            </a:prstGeom>
            <a:ln w="2232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5"/>
          <p:cNvSpPr/>
          <p:nvPr/>
        </p:nvSpPr>
        <p:spPr>
          <a:xfrm>
            <a:off x="267840" y="5029200"/>
            <a:ext cx="86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the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Henderson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Hasselbalch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enderson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asselbalch Equation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at is the pH of a buffer that is 0.12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n lactic acid, C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(OH)COOH, and 0.10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n sodium lactate? 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lactic acid is 1.4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−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enderson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Hasselbalch Equation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2220480" y="1905120"/>
            <a:ext cx="4054680" cy="1068840"/>
            <a:chOff x="2220480" y="1905120"/>
            <a:chExt cx="4054680" cy="1068840"/>
          </a:xfrm>
        </p:grpSpPr>
        <p:sp>
          <p:nvSpPr>
            <p:cNvPr id="156" name="Rectangle 5"/>
            <p:cNvSpPr/>
            <p:nvPr/>
          </p:nvSpPr>
          <p:spPr>
            <a:xfrm>
              <a:off x="2220480" y="2149200"/>
              <a:ext cx="2796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H = p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4975200" y="1905120"/>
              <a:ext cx="1299960" cy="1068840"/>
              <a:chOff x="4975200" y="1905120"/>
              <a:chExt cx="1299960" cy="1068840"/>
            </a:xfrm>
          </p:grpSpPr>
          <p:sp>
            <p:nvSpPr>
              <p:cNvPr id="158" name="Rectangle 7"/>
              <p:cNvSpPr/>
              <p:nvPr/>
            </p:nvSpPr>
            <p:spPr>
              <a:xfrm>
                <a:off x="4988160" y="1905120"/>
                <a:ext cx="1287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base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[acid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>
                <a:off x="4975200" y="2475000"/>
                <a:ext cx="129528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Group 23"/>
          <p:cNvGrpSpPr/>
          <p:nvPr/>
        </p:nvGrpSpPr>
        <p:grpSpPr>
          <a:xfrm>
            <a:off x="2181240" y="2895480"/>
            <a:ext cx="6350400" cy="1068840"/>
            <a:chOff x="2181240" y="2895480"/>
            <a:chExt cx="6350400" cy="1068840"/>
          </a:xfrm>
        </p:grpSpPr>
        <p:sp>
          <p:nvSpPr>
            <p:cNvPr id="161" name="Rectangle 11"/>
            <p:cNvSpPr/>
            <p:nvPr/>
          </p:nvSpPr>
          <p:spPr>
            <a:xfrm>
              <a:off x="2181240" y="3179880"/>
              <a:ext cx="516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H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log (1.4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+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21"/>
            <p:cNvGrpSpPr/>
            <p:nvPr/>
          </p:nvGrpSpPr>
          <p:grpSpPr>
            <a:xfrm>
              <a:off x="7290360" y="2895480"/>
              <a:ext cx="1241280" cy="1068840"/>
              <a:chOff x="7290360" y="2895480"/>
              <a:chExt cx="1241280" cy="1068840"/>
            </a:xfrm>
          </p:grpSpPr>
          <p:sp>
            <p:nvSpPr>
              <p:cNvPr id="163" name="Rectangle 13"/>
              <p:cNvSpPr/>
              <p:nvPr/>
            </p:nvSpPr>
            <p:spPr>
              <a:xfrm>
                <a:off x="7290360" y="2895480"/>
                <a:ext cx="1241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10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12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7405560" y="3465360"/>
                <a:ext cx="106668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Rectangle 17"/>
          <p:cNvSpPr/>
          <p:nvPr/>
        </p:nvSpPr>
        <p:spPr>
          <a:xfrm>
            <a:off x="2211840" y="4167360"/>
            <a:ext cx="195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3.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2211840" y="4167360"/>
            <a:ext cx="371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3.85 + (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0.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en Strong Acids or Bases Are Added to a Buffer…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safe to assume that all of the strong acid or base is consumed in the reac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1" name="Picture 10" descr="17_03"/>
          <p:cNvPicPr/>
          <p:nvPr/>
        </p:nvPicPr>
        <p:blipFill>
          <a:blip r:embed="rId1"/>
          <a:srcRect l="0" t="0" r="0" b="7405"/>
          <a:stretch/>
        </p:blipFill>
        <p:spPr>
          <a:xfrm>
            <a:off x="958680" y="3048120"/>
            <a:ext cx="722484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ddition of Strong Acid or Base to a Buff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termine how the neutralization reaction affects the amounts of the weak acid and its conjugate base in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se the Henders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sselbalch equation to determine the new pH of the solu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4" name="Picture 5" descr="17_03-01UN"/>
          <p:cNvPicPr/>
          <p:nvPr/>
        </p:nvPicPr>
        <p:blipFill>
          <a:blip r:embed="rId1"/>
          <a:srcRect l="0" t="0" r="0" b="3721"/>
          <a:stretch/>
        </p:blipFill>
        <p:spPr>
          <a:xfrm>
            <a:off x="533520" y="1981080"/>
            <a:ext cx="2138400" cy="411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Changes in 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buffer is made by adding 0.300 mol HC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0.300 mol NaC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enough water to make 1.00 L of solution.  The pH of the buffer is 4.74.  Calculate the pH of this solution after 0.020 mol of NaOH is added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a solution of acetic acid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cetate ion is added to the solution, Le Châtelier says the equilibrium will shift to the left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54" name="Group 10"/>
          <p:cNvGrpSpPr/>
          <p:nvPr/>
        </p:nvGrpSpPr>
        <p:grpSpPr>
          <a:xfrm>
            <a:off x="340920" y="2590920"/>
            <a:ext cx="8367840" cy="510120"/>
            <a:chOff x="340920" y="2590920"/>
            <a:chExt cx="8367840" cy="510120"/>
          </a:xfrm>
        </p:grpSpPr>
        <p:sp>
          <p:nvSpPr>
            <p:cNvPr id="55" name="Rectangle 5"/>
            <p:cNvSpPr/>
            <p:nvPr/>
          </p:nvSpPr>
          <p:spPr>
            <a:xfrm>
              <a:off x="340920" y="2590920"/>
              <a:ext cx="314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OOH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5386680" y="2590920"/>
              <a:ext cx="332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4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+ CH</a:t>
              </a:r>
              <a:r>
                <a:rPr b="0" lang="en-US" sz="24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COO</a:t>
              </a:r>
              <a:r>
                <a:rPr b="0" lang="en-US" sz="24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18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c82e32"/>
                  </a:solidFill>
                  <a:latin typeface="Arial"/>
                </a:rPr>
                <a:t>aq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equilibrium"/>
            <p:cNvPicPr/>
            <p:nvPr/>
          </p:nvPicPr>
          <p:blipFill>
            <a:blip r:embed="rId1"/>
            <a:stretch/>
          </p:blipFill>
          <p:spPr>
            <a:xfrm>
              <a:off x="3637080" y="2698920"/>
              <a:ext cx="158724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320" y="228240"/>
            <a:ext cx="906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Changes in 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52560" y="1876320"/>
            <a:ext cx="7238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0.020 mol NaOH will react with 0.020 mol of the ace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aq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4038480"/>
          <a:ext cx="7010640" cy="129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1524240"/>
                <a:gridCol w="16002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Before re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0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0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fter re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2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3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00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05"/>
          <p:cNvSpPr/>
          <p:nvPr/>
        </p:nvSpPr>
        <p:spPr>
          <a:xfrm>
            <a:off x="3505320" y="495288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6"/>
          <p:cNvSpPr/>
          <p:nvPr/>
        </p:nvSpPr>
        <p:spPr>
          <a:xfrm>
            <a:off x="5029200" y="495288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7"/>
          <p:cNvSpPr/>
          <p:nvPr/>
        </p:nvSpPr>
        <p:spPr>
          <a:xfrm>
            <a:off x="6629400" y="495288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8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lculating pH Changes in 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33520" y="1784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w use the Henders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sselbalch equation to calculate the new 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3"/>
          <p:cNvGrpSpPr/>
          <p:nvPr/>
        </p:nvGrpSpPr>
        <p:grpSpPr>
          <a:xfrm>
            <a:off x="2212920" y="2895480"/>
            <a:ext cx="4494960" cy="1068840"/>
            <a:chOff x="2212920" y="2895480"/>
            <a:chExt cx="4494960" cy="1068840"/>
          </a:xfrm>
        </p:grpSpPr>
        <p:sp>
          <p:nvSpPr>
            <p:cNvPr id="188" name="Rectangle 29"/>
            <p:cNvSpPr/>
            <p:nvPr/>
          </p:nvSpPr>
          <p:spPr>
            <a:xfrm>
              <a:off x="2212920" y="3139920"/>
              <a:ext cx="29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H = 4.74 + 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30"/>
            <p:cNvGrpSpPr/>
            <p:nvPr/>
          </p:nvGrpSpPr>
          <p:grpSpPr>
            <a:xfrm>
              <a:off x="5240880" y="2895480"/>
              <a:ext cx="1467000" cy="1068840"/>
              <a:chOff x="5240880" y="2895480"/>
              <a:chExt cx="1467000" cy="1068840"/>
            </a:xfrm>
          </p:grpSpPr>
          <p:sp>
            <p:nvSpPr>
              <p:cNvPr id="190" name="Rectangle 31"/>
              <p:cNvSpPr/>
              <p:nvPr/>
            </p:nvSpPr>
            <p:spPr>
              <a:xfrm>
                <a:off x="5240880" y="2895480"/>
                <a:ext cx="1467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320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(0.200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>
                <a:off x="5316480" y="3465360"/>
                <a:ext cx="129528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35"/>
          <p:cNvSpPr/>
          <p:nvPr/>
        </p:nvSpPr>
        <p:spPr>
          <a:xfrm>
            <a:off x="2212560" y="428292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4.74 + 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9"/>
          <p:cNvSpPr/>
          <p:nvPr/>
        </p:nvSpPr>
        <p:spPr>
          <a:xfrm>
            <a:off x="2211840" y="4282920"/>
            <a:ext cx="195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4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technique a known concentration of base (or acid) is slowly added to a solution of acid (or base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6" name="Picture 9" descr="17_05"/>
          <p:cNvPicPr/>
          <p:nvPr/>
        </p:nvPicPr>
        <p:blipFill>
          <a:blip r:embed="rId1"/>
          <a:srcRect l="0" t="0" r="0" b="3447"/>
          <a:stretch/>
        </p:blipFill>
        <p:spPr>
          <a:xfrm>
            <a:off x="533520" y="1676520"/>
            <a:ext cx="384804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pH meter or indicators are used to determine when the solution has reached the </a:t>
            </a:r>
            <a:r>
              <a:rPr b="0" lang="en-US" sz="2800" spc="-1" strike="noStrike">
                <a:solidFill>
                  <a:srgbClr val="00006c"/>
                </a:solidFill>
                <a:latin typeface="Arial"/>
              </a:rPr>
              <a:t>equivalence poi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at which the stoichiometric amount of acid equals that of b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9" name="Picture 5" descr="17_07"/>
          <p:cNvPicPr/>
          <p:nvPr/>
        </p:nvPicPr>
        <p:blipFill>
          <a:blip r:embed="rId1"/>
          <a:srcRect l="0" t="0" r="0" b="8877"/>
          <a:stretch/>
        </p:blipFill>
        <p:spPr>
          <a:xfrm>
            <a:off x="4648320" y="2463840"/>
            <a:ext cx="425124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8" descr="17_06"/>
          <p:cNvPicPr/>
          <p:nvPr/>
        </p:nvPicPr>
        <p:blipFill>
          <a:blip r:embed="rId1"/>
          <a:srcRect l="0" t="0" r="0" b="4250"/>
          <a:stretch/>
        </p:blipFill>
        <p:spPr>
          <a:xfrm>
            <a:off x="228600" y="19810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Strong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rom the start of the titration to near the equivalence point, the pH goes up slowl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523880" y="4497480"/>
            <a:ext cx="388800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17_06"/>
          <p:cNvPicPr/>
          <p:nvPr/>
        </p:nvPicPr>
        <p:blipFill>
          <a:blip r:embed="rId1"/>
          <a:srcRect l="0" t="0" r="0" b="4250"/>
          <a:stretch/>
        </p:blipFill>
        <p:spPr>
          <a:xfrm>
            <a:off x="228600" y="19810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Strong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Just before (and after) the equivalence point, the pH increases rapidl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895480" y="4497480"/>
            <a:ext cx="251640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28600" y="4497480"/>
            <a:ext cx="129708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7_06"/>
          <p:cNvPicPr/>
          <p:nvPr/>
        </p:nvPicPr>
        <p:blipFill>
          <a:blip r:embed="rId1"/>
          <a:srcRect l="0" t="0" r="0" b="4250"/>
          <a:stretch/>
        </p:blipFill>
        <p:spPr>
          <a:xfrm>
            <a:off x="228600" y="19810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Strong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the equivalence point, moles acid = moles base, and the solution contains only water and the salt from the cation of the base and the anion of the ac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191120" y="4497480"/>
            <a:ext cx="122076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228600" y="4497480"/>
            <a:ext cx="251460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17_06"/>
          <p:cNvPicPr/>
          <p:nvPr/>
        </p:nvPicPr>
        <p:blipFill>
          <a:blip r:embed="rId1"/>
          <a:srcRect l="0" t="0" r="0" b="4250"/>
          <a:stretch/>
        </p:blipFill>
        <p:spPr>
          <a:xfrm>
            <a:off x="228600" y="1981080"/>
            <a:ext cx="5181480" cy="40388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Strong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more base is added, the increase in pH again levels off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228600" y="4497480"/>
            <a:ext cx="3886200" cy="152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Weak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380988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each point below the equivalence point, the pH of the solution during titration is determined from the amounts of the acid and its conjugate base present at that particular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0" name="Picture 10" descr="17_10"/>
          <p:cNvPicPr/>
          <p:nvPr/>
        </p:nvPicPr>
        <p:blipFill>
          <a:blip r:embed="rId1"/>
          <a:srcRect l="0" t="0" r="0" b="13519"/>
          <a:stretch/>
        </p:blipFill>
        <p:spPr>
          <a:xfrm>
            <a:off x="343080" y="1738440"/>
            <a:ext cx="845820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999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xtent of ionization of a weak electrolyte is decreased by adding to the solution a strong electrolyte that has an ion in common with the weak electrolyte.”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Weak Acid with a Strong Bas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ith weaker acids, the initial pH is higher and pH changes near the equivalence point are more subt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6" name="Picture 8" descr="17_11"/>
          <p:cNvPicPr/>
          <p:nvPr/>
        </p:nvPicPr>
        <p:blipFill>
          <a:blip r:embed="rId1"/>
          <a:srcRect l="0" t="0" r="0" b="4689"/>
          <a:stretch/>
        </p:blipFill>
        <p:spPr>
          <a:xfrm>
            <a:off x="152280" y="1676520"/>
            <a:ext cx="430560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 of a Weak Base with a Strong Acid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pH at the equivalence point in these titrations is &lt; 7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hyl red is the indicator of choi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9" name="Picture 5" descr="17_12"/>
          <p:cNvPicPr/>
          <p:nvPr/>
        </p:nvPicPr>
        <p:blipFill>
          <a:blip r:embed="rId1"/>
          <a:stretch/>
        </p:blipFill>
        <p:spPr>
          <a:xfrm>
            <a:off x="4648320" y="180180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trations of Polyprotic Aci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one titrates a polyprotic acid with a base there is an equivalence point for each dissoc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2" name="Picture 5" descr="17_13"/>
          <p:cNvPicPr/>
          <p:nvPr/>
        </p:nvPicPr>
        <p:blipFill>
          <a:blip r:embed="rId1"/>
          <a:srcRect l="0" t="0" r="0" b="2996"/>
          <a:stretch/>
        </p:blipFill>
        <p:spPr>
          <a:xfrm>
            <a:off x="498600" y="2286000"/>
            <a:ext cx="414972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lubility Produc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the equilibrium that exists in a saturated solution of BaS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n water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575640" y="4038480"/>
            <a:ext cx="7680240" cy="648720"/>
            <a:chOff x="575640" y="4038480"/>
            <a:chExt cx="7680240" cy="648720"/>
          </a:xfrm>
        </p:grpSpPr>
        <p:sp>
          <p:nvSpPr>
            <p:cNvPr id="236" name="Rectangle 4"/>
            <p:cNvSpPr/>
            <p:nvPr/>
          </p:nvSpPr>
          <p:spPr>
            <a:xfrm>
              <a:off x="575640" y="4038480"/>
              <a:ext cx="1753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aS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4660920" y="4038480"/>
              <a:ext cx="359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a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 + S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8" descr="equilibrium"/>
            <p:cNvPicPr/>
            <p:nvPr/>
          </p:nvPicPr>
          <p:blipFill>
            <a:blip r:embed="rId1"/>
            <a:stretch/>
          </p:blipFill>
          <p:spPr>
            <a:xfrm>
              <a:off x="2773080" y="4208400"/>
              <a:ext cx="162252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lubility Produc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he same as solubilit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lubility is generally expressed as the mass of solute dissolved in 1 L (g/L) or 100 mL (g/mL) of solution, or in mol/L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1" name="Picture 5" descr="17_14"/>
          <p:cNvPicPr/>
          <p:nvPr/>
        </p:nvPicPr>
        <p:blipFill>
          <a:blip r:embed="rId1"/>
          <a:srcRect l="0" t="0" r="0" b="18313"/>
          <a:stretch/>
        </p:blipFill>
        <p:spPr>
          <a:xfrm>
            <a:off x="685800" y="4121280"/>
            <a:ext cx="7772400" cy="98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Solubil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one of the ions in a solution equilibrium is already dissolved in the solution, the equilibrium will shift to the left and the solubility of the salt will decreas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586800" y="4724280"/>
            <a:ext cx="7593120" cy="648720"/>
            <a:chOff x="586800" y="4724280"/>
            <a:chExt cx="7593120" cy="648720"/>
          </a:xfrm>
        </p:grpSpPr>
        <p:sp>
          <p:nvSpPr>
            <p:cNvPr id="248" name="Rectangle 5"/>
            <p:cNvSpPr/>
            <p:nvPr/>
          </p:nvSpPr>
          <p:spPr>
            <a:xfrm>
              <a:off x="586800" y="4724280"/>
              <a:ext cx="1753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aS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4584960" y="4724280"/>
              <a:ext cx="359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a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 + S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8" descr="equilibrium"/>
            <p:cNvPicPr/>
            <p:nvPr/>
          </p:nvPicPr>
          <p:blipFill>
            <a:blip r:embed="rId1"/>
            <a:stretch/>
          </p:blipFill>
          <p:spPr>
            <a:xfrm>
              <a:off x="2736720" y="489420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Solubil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560" y="1371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mplex Ion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etal ions can act as Lewis acids and form complex ions with Lewis bases in the solvent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3" name="Picture 8" descr="17_T01"/>
          <p:cNvPicPr/>
          <p:nvPr/>
        </p:nvPicPr>
        <p:blipFill>
          <a:blip r:embed="rId1"/>
          <a:srcRect l="0" t="0" r="0" b="5448"/>
          <a:stretch/>
        </p:blipFill>
        <p:spPr>
          <a:xfrm>
            <a:off x="1843200" y="2819520"/>
            <a:ext cx="5456160" cy="35812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9"/>
          <p:cNvSpPr/>
          <p:nvPr/>
        </p:nvSpPr>
        <p:spPr>
          <a:xfrm>
            <a:off x="1905120" y="2895480"/>
            <a:ext cx="914400" cy="152640"/>
          </a:xfrm>
          <a:prstGeom prst="rect">
            <a:avLst/>
          </a:prstGeom>
          <a:solidFill>
            <a:srgbClr val="007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actors Affecting Solubil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146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mplex Ion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80172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formation of these complex ions increases the solubility of these salt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7" name="Picture 6" descr="17_19"/>
          <p:cNvPicPr/>
          <p:nvPr/>
        </p:nvPicPr>
        <p:blipFill>
          <a:blip r:embed="rId1"/>
          <a:srcRect l="7237" t="15241" r="8986" b="20041"/>
          <a:stretch/>
        </p:blipFill>
        <p:spPr>
          <a:xfrm>
            <a:off x="534960" y="1830240"/>
            <a:ext cx="511956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lculate the fluoride ion concentration and pH of a solution that is 0.2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 HF and 0.1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n HC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HF is 6.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2180520" y="5029200"/>
            <a:ext cx="4821840" cy="1006200"/>
            <a:chOff x="2180520" y="5029200"/>
            <a:chExt cx="4821840" cy="1006200"/>
          </a:xfrm>
        </p:grpSpPr>
        <p:grpSp>
          <p:nvGrpSpPr>
            <p:cNvPr id="63" name="Group 4"/>
            <p:cNvGrpSpPr/>
            <p:nvPr/>
          </p:nvGrpSpPr>
          <p:grpSpPr>
            <a:xfrm>
              <a:off x="2180520" y="5029200"/>
              <a:ext cx="2699640" cy="1006200"/>
              <a:chOff x="2180520" y="5029200"/>
              <a:chExt cx="2699640" cy="1006200"/>
            </a:xfrm>
          </p:grpSpPr>
          <p:grpSp>
            <p:nvGrpSpPr>
              <p:cNvPr id="64" name="Group 5"/>
              <p:cNvGrpSpPr/>
              <p:nvPr/>
            </p:nvGrpSpPr>
            <p:grpSpPr>
              <a:xfrm>
                <a:off x="3084120" y="5029200"/>
                <a:ext cx="1796040" cy="1006200"/>
                <a:chOff x="3084120" y="5029200"/>
                <a:chExt cx="1796040" cy="1006200"/>
              </a:xfrm>
            </p:grpSpPr>
            <p:sp>
              <p:nvSpPr>
                <p:cNvPr id="65" name="Rectangle 6"/>
                <p:cNvSpPr/>
                <p:nvPr/>
              </p:nvSpPr>
              <p:spPr>
                <a:xfrm>
                  <a:off x="3101040" y="5029200"/>
                  <a:ext cx="1779120" cy="10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H</a:t>
                  </a:r>
                  <a:r>
                    <a:rPr b="0" lang="en-US" sz="2800" spc="-1" strike="noStrike" baseline="-25000">
                      <a:solidFill>
                        <a:srgbClr val="c82e32"/>
                      </a:solidFill>
                      <a:latin typeface="Arial"/>
                    </a:rPr>
                    <a:t>3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800" spc="-1" strike="noStrike" baseline="30000">
                      <a:solidFill>
                        <a:srgbClr val="c82e32"/>
                      </a:solidFill>
                      <a:latin typeface="Arial"/>
                    </a:rPr>
                    <a:t>+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] [F</a:t>
                  </a:r>
                  <a:r>
                    <a:rPr b="0" lang="en-US" sz="2800" spc="-1" strike="noStrike" baseline="30000">
                      <a:solidFill>
                        <a:srgbClr val="c82e32"/>
                      </a:solidFill>
                      <a:latin typeface="Arial"/>
                      <a:ea typeface="Arial"/>
                    </a:rPr>
                    <a:t>−</a:t>
                  </a: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82e32"/>
                      </a:solidFill>
                      <a:latin typeface="Arial"/>
                    </a:rPr>
                    <a:t>[HF]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7"/>
                <p:cNvSpPr/>
                <p:nvPr/>
              </p:nvSpPr>
              <p:spPr>
                <a:xfrm>
                  <a:off x="3084120" y="5535720"/>
                  <a:ext cx="17517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Rectangle 8"/>
              <p:cNvSpPr/>
              <p:nvPr/>
            </p:nvSpPr>
            <p:spPr>
              <a:xfrm>
                <a:off x="2180520" y="5243400"/>
                <a:ext cx="837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9"/>
            <p:cNvSpPr/>
            <p:nvPr/>
          </p:nvSpPr>
          <p:spPr>
            <a:xfrm>
              <a:off x="4960800" y="5243400"/>
              <a:ext cx="204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= 6.8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ill a Precipitate Form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2204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a solution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the system is at equilibrium and the solution is satu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&lt;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more solid can dissolve unti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&gt;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the salt will precipitate unti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elective Precipitation of 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can use differences in solubilities of salts to separate ions in a mix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2" name="Picture 5" descr="17_22"/>
          <p:cNvPicPr/>
          <p:nvPr/>
        </p:nvPicPr>
        <p:blipFill>
          <a:blip r:embed="rId1"/>
          <a:srcRect l="0" t="0" r="0" b="3128"/>
          <a:stretch/>
        </p:blipFill>
        <p:spPr>
          <a:xfrm>
            <a:off x="762120" y="1600200"/>
            <a:ext cx="36306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811080" y="2635200"/>
            <a:ext cx="7520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ecause HCl, a strong acid, is also present, the initial [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is not 0, but rather 0.10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4057560"/>
          <a:ext cx="7619760" cy="1658880"/>
        </p:xfrm>
        <a:graphic>
          <a:graphicData uri="http://schemas.openxmlformats.org/drawingml/2006/table">
            <a:tbl>
              <a:tblPr/>
              <a:tblGrid>
                <a:gridCol w="1904760"/>
                <a:gridCol w="2362320"/>
                <a:gridCol w="2133720"/>
                <a:gridCol w="1218960"/>
              </a:tblGrid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F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F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1368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20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  <a:ea typeface="Arial"/>
                        </a:rPr>
                        <a:t>− 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.10 + </a:t>
                      </a: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368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368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" name="Group 131"/>
          <p:cNvGrpSpPr/>
          <p:nvPr/>
        </p:nvGrpSpPr>
        <p:grpSpPr>
          <a:xfrm>
            <a:off x="642960" y="1600200"/>
            <a:ext cx="7516080" cy="579600"/>
            <a:chOff x="642960" y="1600200"/>
            <a:chExt cx="7516080" cy="579600"/>
          </a:xfrm>
        </p:grpSpPr>
        <p:sp>
          <p:nvSpPr>
            <p:cNvPr id="73" name="Rectangle 6"/>
            <p:cNvSpPr/>
            <p:nvPr/>
          </p:nvSpPr>
          <p:spPr>
            <a:xfrm>
              <a:off x="642960" y="1600200"/>
              <a:ext cx="238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F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5463000" y="1600200"/>
              <a:ext cx="2696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F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28" descr="equilibrium"/>
            <p:cNvPicPr/>
            <p:nvPr/>
          </p:nvPicPr>
          <p:blipFill>
            <a:blip r:embed="rId1"/>
            <a:stretch/>
          </p:blipFill>
          <p:spPr>
            <a:xfrm>
              <a:off x="3608280" y="173988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Rectangle 141"/>
          <p:cNvSpPr/>
          <p:nvPr/>
        </p:nvSpPr>
        <p:spPr>
          <a:xfrm>
            <a:off x="3581280" y="49528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2"/>
          <p:cNvSpPr/>
          <p:nvPr/>
        </p:nvSpPr>
        <p:spPr>
          <a:xfrm>
            <a:off x="5867280" y="49528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3"/>
          <p:cNvSpPr/>
          <p:nvPr/>
        </p:nvSpPr>
        <p:spPr>
          <a:xfrm>
            <a:off x="7467480" y="49528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5"/>
          <p:cNvSpPr/>
          <p:nvPr/>
        </p:nvSpPr>
        <p:spPr>
          <a:xfrm>
            <a:off x="76201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6"/>
          <p:cNvSpPr/>
          <p:nvPr/>
        </p:nvSpPr>
        <p:spPr>
          <a:xfrm>
            <a:off x="5257800" y="5334120"/>
            <a:ext cx="1752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7"/>
          <p:cNvSpPr/>
          <p:nvPr/>
        </p:nvSpPr>
        <p:spPr>
          <a:xfrm>
            <a:off x="3048120" y="5334120"/>
            <a:ext cx="1752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mmon-Ion Effec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34286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.4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4" name="Group 17"/>
          <p:cNvGrpSpPr/>
          <p:nvPr/>
        </p:nvGrpSpPr>
        <p:grpSpPr>
          <a:xfrm>
            <a:off x="2561760" y="2133720"/>
            <a:ext cx="3915000" cy="947160"/>
            <a:chOff x="2561760" y="2133720"/>
            <a:chExt cx="3915000" cy="947160"/>
          </a:xfrm>
        </p:grpSpPr>
        <p:grpSp>
          <p:nvGrpSpPr>
            <p:cNvPr id="85" name="Group 9"/>
            <p:cNvGrpSpPr/>
            <p:nvPr/>
          </p:nvGrpSpPr>
          <p:grpSpPr>
            <a:xfrm>
              <a:off x="4724280" y="2133720"/>
              <a:ext cx="1752480" cy="947160"/>
              <a:chOff x="4724280" y="2133720"/>
              <a:chExt cx="1752480" cy="947160"/>
            </a:xfrm>
          </p:grpSpPr>
          <p:sp>
            <p:nvSpPr>
              <p:cNvPr id="86" name="Rectangle 6"/>
              <p:cNvSpPr/>
              <p:nvPr/>
            </p:nvSpPr>
            <p:spPr>
              <a:xfrm>
                <a:off x="4743360" y="2133720"/>
                <a:ext cx="1626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(0.10) (</a:t>
                </a:r>
                <a:r>
                  <a:rPr b="0" i="1" lang="en-US" sz="2800" spc="-1" strike="noStrike">
                    <a:solidFill>
                      <a:srgbClr val="c82e32"/>
                    </a:solidFill>
                    <a:latin typeface="Arial"/>
                  </a:rPr>
                  <a:t>x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(0.20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4724280" y="2639880"/>
                <a:ext cx="1752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Rectangle 8"/>
            <p:cNvSpPr/>
            <p:nvPr/>
          </p:nvSpPr>
          <p:spPr>
            <a:xfrm>
              <a:off x="2561760" y="2373480"/>
              <a:ext cx="209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6.8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6"/>
          <p:cNvGrpSpPr/>
          <p:nvPr/>
        </p:nvGrpSpPr>
        <p:grpSpPr>
          <a:xfrm>
            <a:off x="1236240" y="3233880"/>
            <a:ext cx="3054960" cy="947160"/>
            <a:chOff x="1236240" y="3233880"/>
            <a:chExt cx="3054960" cy="947160"/>
          </a:xfrm>
        </p:grpSpPr>
        <p:sp>
          <p:nvSpPr>
            <p:cNvPr id="90" name="Rectangle 13"/>
            <p:cNvSpPr/>
            <p:nvPr/>
          </p:nvSpPr>
          <p:spPr>
            <a:xfrm>
              <a:off x="1236240" y="3233880"/>
              <a:ext cx="3054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(0.20) (6.8 </a:t>
              </a: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(0.1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1393560" y="3714840"/>
              <a:ext cx="281952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ffers are solutions of a weak conjugate acid-base pai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particularly resistant to pH changes, even when strong acid or base is add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6" name="Picture 7" descr="17_01"/>
          <p:cNvPicPr/>
          <p:nvPr/>
        </p:nvPicPr>
        <p:blipFill>
          <a:blip r:embed="rId1"/>
          <a:srcRect l="0" t="0" r="0" b="3373"/>
          <a:stretch/>
        </p:blipFill>
        <p:spPr>
          <a:xfrm>
            <a:off x="228600" y="2209680"/>
            <a:ext cx="4267080" cy="336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uff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a small amount of hydroxide is added to an equimolar solution of HF in NaF, for example, the HF reacts with the OH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to make F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nd water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9" name="Picture 6" descr="17_02base"/>
          <p:cNvPicPr/>
          <p:nvPr/>
        </p:nvPicPr>
        <p:blipFill>
          <a:blip r:embed="rId1"/>
          <a:stretch/>
        </p:blipFill>
        <p:spPr>
          <a:xfrm>
            <a:off x="2646360" y="1598760"/>
            <a:ext cx="384804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19:38:13Z</dcterms:created>
  <dc:creator>John Bookstaver</dc:creator>
  <dc:description/>
  <dc:language>en-US</dc:language>
  <cp:lastModifiedBy>Windows User</cp:lastModifiedBy>
  <dcterms:modified xsi:type="dcterms:W3CDTF">2012-12-06T12:55:36Z</dcterms:modified>
  <cp:revision>50</cp:revision>
  <dc:subject/>
  <dc:title>Chapter 17 Additional Aspects of Aqueous Equilibria</dc:title>
</cp:coreProperties>
</file>